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240065-D3DD-4A85-A762-8F80F1C8BB7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F0ADDD-EE4D-4479-A5F3-1FBDF95EBDA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CD664A-EC4D-48F9-B074-535B39A3C99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65DEFC-FDE9-4E9B-B4E7-C3AE9E87B0A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DB85D0-ACC6-49F6-B7A3-91F7678027E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DD3667-7905-4569-9303-1C3F3C3BF70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2DD702-0E4D-4611-941E-2ADEBC17CC5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20E34B-ADCE-4BE4-ABF2-D2C3CCFEBCC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6F1B54-6377-41A4-8786-C2473FFB804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109D4E-A9D9-4BC1-B7C8-E393C94C0E3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118CFB-D40F-4A87-86D4-CF207066A4E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B853CA-D122-44B5-B34B-B3189F19098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7A0720-6099-4570-8328-6EA185F2E25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CC885F-BDC5-49CA-8C57-FB001D3C840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C3D9A1-B02F-4F81-867A-B5584C5AF1F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7BE794-5573-4E6C-B940-50A85980BB1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AD60B3-1F0D-4647-B087-9A8B260FBB2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064D7A-FA70-4D74-96ED-D9AD73446CC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EEFBB6-6441-492F-996D-014691406B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9ACD00-CCE9-4439-8F94-830479129DE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AB89BF-3755-4801-AB34-EB726F04C67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F5C534-9F55-44CD-BAF0-EF75C5470F2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C31FBC-A9D6-4901-A613-D34A9179E95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0960A3-9ECB-40A8-9EA2-5EE8080159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90513E-01A9-430F-9B09-0DCE7EAACFA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EC5302-38A8-4E3C-A827-872297D944E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786715-EEBA-4237-A1FB-D53B1C4F2F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5E89CB-A813-46EE-9D40-336466160F8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8C8135-1B8C-4853-9A6C-C42F200D0AE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0711FE-73E1-497B-87DE-A97A220B194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92736D-3DB6-4AC0-A808-EB3FD7CD73F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0E6BC5-FF08-4C09-98BA-6A3DA45C505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8DE-C9EB-4D16-8495-75420B17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A21-BDD0-47BB-A7C9-814AADE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B1A-02C4-44F5-A308-26F1725A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944-589B-40D1-873B-0661C70E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27C-1621-4226-95E6-6DCC116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3F88-5917-407A-9FBC-BC9A5FA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33A-782C-4C18-954A-47806D4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4BA-89D1-4665-8D87-7C7425DE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17F1-61E1-4645-AB82-3A462BB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07C-00B9-4D6D-B948-315FDB8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CF71-669D-4176-9456-0523A76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3FB-AAAE-4627-BFC9-B74A3AD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79B8-E4C6-4552-AF86-3C52269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67D0-95DC-445D-809C-9B0E33F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95D6-1CB0-4483-8865-74B90BA4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18A-91FC-49AD-9BCE-F4D18C63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6A72-DCFA-4A4D-9FAA-681872EA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0E7-C143-4055-A279-A1DFE95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2EE-54D1-433E-A41C-6B24275B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1A3-4808-4CF7-A3AA-7B47E5D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268-424F-460D-8DB8-AA81678E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DC6-1E65-4323-B0CB-EE36C73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D39-0CB2-42C8-8A9C-B0CEBF5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F86-253D-4CE6-B8FD-2D26484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CEE-BBFD-40DB-8756-815FF0E40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BE0-A11F-4791-9F77-BCF6DBC4ABC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5867280" y="6308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i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  <a:ea typeface="ＭＳ Ｐゴシック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  <a:ea typeface="ＭＳ Ｐゴシック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ounded Rectangle 4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2 and 3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intersect the two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gment postings with </a:t>
            </a: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96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98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99" name="AutoShape 21"/>
              <p:cNvCxnSpPr>
                <a:stCxn id="98" idx="3"/>
                <a:endCxn id="100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00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2" name="AutoShape 24"/>
              <p:cNvCxnSpPr>
                <a:stCxn id="100" idx="3"/>
                <a:endCxn id="103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03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5" name="AutoShape 27"/>
              <p:cNvCxnSpPr>
                <a:stCxn id="103" idx="3"/>
                <a:endCxn id="106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06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08" name="AutoShape 30"/>
              <p:cNvCxnSpPr>
                <a:stCxn id="106" idx="3"/>
                <a:endCxn id="109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09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1" name="AutoShape 33"/>
              <p:cNvCxnSpPr>
                <a:stCxn id="109" idx="3"/>
                <a:endCxn id="112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12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14" name="AutoShape 36"/>
              <p:cNvCxnSpPr>
                <a:stCxn id="112" idx="3"/>
                <a:endCxn id="96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5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16" name="AutoShape 37"/>
              <p:cNvCxnSpPr>
                <a:stCxn id="98" idx="0"/>
                <a:endCxn id="106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17" name="AutoShape 38"/>
              <p:cNvCxnSpPr>
                <a:stCxn id="106" idx="0"/>
                <a:endCxn id="96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18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9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20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1" name="AutoShape 43"/>
            <p:cNvCxnSpPr>
              <a:stCxn id="120" idx="3"/>
              <a:endCxn id="122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22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4" name="AutoShape 46"/>
            <p:cNvCxnSpPr>
              <a:stCxn id="122" idx="3"/>
              <a:endCxn id="125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25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27" name="AutoShape 49"/>
            <p:cNvCxnSpPr>
              <a:stCxn id="125" idx="3"/>
              <a:endCxn id="128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9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28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0" name="AutoShape 52"/>
            <p:cNvCxnSpPr>
              <a:stCxn id="128" idx="3"/>
              <a:endCxn id="131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31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3" name="AutoShape 55"/>
            <p:cNvCxnSpPr>
              <a:stCxn id="131" idx="3"/>
              <a:endCxn id="134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5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34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6" name="AutoShape 58"/>
            <p:cNvCxnSpPr>
              <a:stCxn id="134" idx="3"/>
              <a:endCxn id="137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37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9" name="AutoShape 61"/>
            <p:cNvCxnSpPr>
              <a:stCxn id="137" idx="3"/>
              <a:endCxn id="118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41" name="AutoShape 65"/>
            <p:cNvCxnSpPr>
              <a:stCxn id="120" idx="0"/>
              <a:endCxn id="131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2" name="AutoShape 66"/>
            <p:cNvCxnSpPr>
              <a:stCxn id="131" idx="0"/>
              <a:endCxn id="118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43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-gram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find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ased on a query consisting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s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292400" y="365760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82680" y="419112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3395520" y="365760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299960" y="303840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2057400" y="3200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355200" y="303840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381120" y="42577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002200" y="365760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0" name="AutoShape 13"/>
          <p:cNvCxnSpPr>
            <a:stCxn id="344" idx="3"/>
            <a:endCxn id="349" idx="1"/>
          </p:cNvCxnSpPr>
          <p:nvPr/>
        </p:nvCxnSpPr>
        <p:spPr>
          <a:xfrm>
            <a:off x="4509720" y="389052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Text Box 14"/>
          <p:cNvSpPr/>
          <p:nvPr/>
        </p:nvSpPr>
        <p:spPr>
          <a:xfrm>
            <a:off x="4821840" y="303840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2" name="AutoShape 15"/>
          <p:cNvCxnSpPr>
            <a:stCxn id="347" idx="3"/>
            <a:endCxn id="351" idx="1"/>
          </p:cNvCxnSpPr>
          <p:nvPr/>
        </p:nvCxnSpPr>
        <p:spPr>
          <a:xfrm>
            <a:off x="4254120" y="327132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Line 16"/>
          <p:cNvSpPr/>
          <p:nvPr/>
        </p:nvSpPr>
        <p:spPr>
          <a:xfrm>
            <a:off x="6095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6400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60958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4921920" y="425772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7" name="AutoShape 20"/>
          <p:cNvCxnSpPr>
            <a:stCxn id="348" idx="3"/>
            <a:endCxn id="356" idx="1"/>
          </p:cNvCxnSpPr>
          <p:nvPr/>
        </p:nvCxnSpPr>
        <p:spPr>
          <a:xfrm flipV="1">
            <a:off x="4495680" y="4457520"/>
            <a:ext cx="3880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-gram for wild-cards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now be run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$m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ts terms that match AND version of our wildcard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ust post-filter these terms against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osest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Useful in query-mispell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operations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, (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 (Just 1 with transpose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80880" y="16776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edit distance betwe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914400" y="2819520"/>
            <a:ext cx="7467480" cy="38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E(0,i)=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=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min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+1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ant to capture OCR or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a smaller edit distance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ynamic programming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-gram overlap for Edit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 in the query string as well as in the lexic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(recall wild-card search) to retrieve all lexicon terms matching any of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reshold by number of matching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the term is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hars l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the number of allowed errors 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(E*k, k-grams are kille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(L-k+1) – E*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f the query k-grams must match a dictionary term to be a candidate answ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151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2" name="AutoShape 8"/>
            <p:cNvCxnSpPr>
              <a:stCxn id="151" idx="3"/>
              <a:endCxn id="153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4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153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5" name="AutoShape 11"/>
            <p:cNvCxnSpPr>
              <a:stCxn id="153" idx="3"/>
              <a:endCxn id="156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156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8" name="AutoShape 14"/>
            <p:cNvCxnSpPr>
              <a:stCxn id="156" idx="3"/>
              <a:endCxn id="159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159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1" name="AutoShape 17"/>
            <p:cNvCxnSpPr>
              <a:stCxn id="159" idx="3"/>
              <a:endCxn id="162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162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4" name="AutoShape 20"/>
            <p:cNvCxnSpPr>
              <a:stCxn id="162" idx="3"/>
              <a:endCxn id="165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165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7" name="AutoShape 23"/>
            <p:cNvCxnSpPr>
              <a:stCxn id="165" idx="3"/>
              <a:endCxn id="149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169" name="AutoShape 25"/>
            <p:cNvCxnSpPr>
              <a:stCxn id="151" idx="0"/>
              <a:endCxn id="159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70" name="AutoShape 26"/>
            <p:cNvCxnSpPr>
              <a:stCxn id="159" idx="0"/>
              <a:endCxn id="149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71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173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4" name="AutoShape 31"/>
            <p:cNvCxnSpPr>
              <a:stCxn id="173" idx="3"/>
              <a:endCxn id="175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6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175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7" name="AutoShape 34"/>
            <p:cNvCxnSpPr>
              <a:stCxn id="175" idx="3"/>
              <a:endCxn id="178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9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178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0" name="AutoShape 37"/>
            <p:cNvCxnSpPr>
              <a:stCxn id="178" idx="3"/>
              <a:endCxn id="181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181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3" name="AutoShape 40"/>
            <p:cNvCxnSpPr>
              <a:stCxn id="181" idx="3"/>
              <a:endCxn id="184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5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184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6" name="AutoShape 43"/>
            <p:cNvCxnSpPr>
              <a:stCxn id="184" idx="3"/>
              <a:endCxn id="187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8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187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9" name="AutoShape 46"/>
            <p:cNvCxnSpPr>
              <a:stCxn id="187" idx="3"/>
              <a:endCxn id="190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1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190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2" name="AutoShape 49"/>
            <p:cNvCxnSpPr>
              <a:stCxn id="190" idx="3"/>
              <a:endCxn id="171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194" name="AutoShape 51"/>
            <p:cNvCxnSpPr>
              <a:stCxn id="173" idx="0"/>
              <a:endCxn id="184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5" name="AutoShape 52"/>
            <p:cNvCxnSpPr>
              <a:stCxn id="184" idx="0"/>
              <a:endCxn id="171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6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07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ntext-sensitive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ounded Rectangle 5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2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Arial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2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kip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pointer comparison, but then long skip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15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6" name="AutoShape 6"/>
            <p:cNvCxnSpPr>
              <a:stCxn id="215" idx="3"/>
              <a:endCxn id="213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18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9" name="AutoShape 10"/>
            <p:cNvCxnSpPr>
              <a:stCxn id="218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21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2" name="AutoShape 13"/>
            <p:cNvCxnSpPr>
              <a:stCxn id="221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24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5" name="AutoShape 16"/>
            <p:cNvCxnSpPr>
              <a:stCxn id="224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27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19"/>
            <p:cNvCxnSpPr>
              <a:stCxn id="227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9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30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22"/>
            <p:cNvCxnSpPr>
              <a:stCxn id="230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2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33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25"/>
            <p:cNvCxnSpPr>
              <a:stCxn id="233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5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36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28"/>
            <p:cNvCxnSpPr>
              <a:stCxn id="236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39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31"/>
            <p:cNvCxnSpPr>
              <a:stCxn id="239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1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2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43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4" name="AutoShape 35"/>
            <p:cNvCxnSpPr>
              <a:stCxn id="243" idx="3"/>
              <a:endCxn id="241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246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7" name="AutoShape 38"/>
            <p:cNvCxnSpPr>
              <a:stCxn id="246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8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249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0" name="AutoShape 41"/>
            <p:cNvCxnSpPr>
              <a:stCxn id="249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1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252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3" name="AutoShape 44"/>
            <p:cNvCxnSpPr>
              <a:stCxn id="252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4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255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6" name="AutoShape 47"/>
            <p:cNvCxnSpPr>
              <a:stCxn id="255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7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258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9" name="AutoShape 50"/>
            <p:cNvCxnSpPr>
              <a:stCxn id="258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0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261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2" name="AutoShape 53"/>
            <p:cNvCxnSpPr>
              <a:stCxn id="261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264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5" name="AutoShape 56"/>
            <p:cNvCxnSpPr>
              <a:stCxn id="264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267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68" name="AutoShape 59"/>
            <p:cNvCxnSpPr>
              <a:stCxn id="267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9" name="AutoShape 60"/>
          <p:cNvCxnSpPr>
            <a:stCxn id="215" idx="0"/>
            <a:endCxn id="221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61"/>
          <p:cNvCxnSpPr>
            <a:stCxn id="221" idx="0"/>
            <a:endCxn id="227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62"/>
          <p:cNvCxnSpPr>
            <a:stCxn id="227" idx="0"/>
            <a:endCxn id="233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63"/>
          <p:cNvCxnSpPr>
            <a:stCxn id="233" idx="0"/>
            <a:endCxn id="239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64"/>
          <p:cNvCxnSpPr>
            <a:stCxn id="243" idx="0"/>
            <a:endCxn id="258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65"/>
          <p:cNvCxnSpPr>
            <a:stCxn id="258" idx="0"/>
            <a:endCxn id="241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276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7" name="AutoShape 68"/>
            <p:cNvCxnSpPr>
              <a:stCxn id="276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279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0" name="AutoShape 71"/>
            <p:cNvCxnSpPr>
              <a:stCxn id="279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81" name="AutoShape 72"/>
          <p:cNvCxnSpPr>
            <a:stCxn id="239" idx="0"/>
            <a:endCxn id="213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: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us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sy if the index is relatively static; harder i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keeps changing because of updat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d to help; with modern hardware it may not unless you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 memory-ba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postings list can outweigh the gains from quicker in memory merging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er query = caching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Bi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i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08T15:27:07Z</dcterms:modified>
  <cp:revision>1152</cp:revision>
  <dc:subject/>
  <dc:title>Web Algorithmics</dc:title>
</cp:coreProperties>
</file>